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1CC-1D59-413D-A015-0E7DFBCE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A54-E197-4094-B9A1-C3AA16EF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456-1747-4693-B016-129B3D0E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FEF-54D2-4CC2-A909-6219063E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CB5-4E5A-4A0B-80D4-3131F00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886-D44E-4EBA-B9BE-567D3A32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24F-02B3-4A45-A737-4B8D29A4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836-3636-4EFB-AF86-897E99D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EE4-8580-4B48-B320-57B2F011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90B-2EDF-4F9F-A647-20DC720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A2C-76DC-4822-9C55-366D0638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941-4807-4FA5-9D86-81A98BB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CF7D58DD-DC0B-445F-AF5E-0523E8B428B4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Under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under-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TE, CNIG-IGN, INAF, MPIfR, NCU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DANTE and NCU received less than 5,000 € for the firs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IG-IGN, MPIFR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partners have had delays in their network construction/installation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363-0107-4507-9448-834B7D9247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Audited Returns in Gree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147680"/>
          <a:ext cx="6680160" cy="527220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3DA-E49D-482F-9620-12A804E924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ed Financial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with Audited Form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K/M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eC/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spenders all provided audited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opies of all audits are in the final repo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143000"/>
          <a:ext cx="3925800" cy="4903920"/>
        </p:xfrm>
        <a:graphic>
          <a:graphicData uri="http://schemas.openxmlformats.org/drawingml/2006/table">
            <a:tbl>
              <a:tblPr/>
              <a:tblGrid>
                <a:gridCol w="1211040"/>
                <a:gridCol w="1420920"/>
                <a:gridCol w="12938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is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9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79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2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8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A8E-66A9-4585-96E2-467ECE179C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 Certific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ncouraged" audits from all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ugges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 to be a valuable suggestion as international auditing expectations required time to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artners who received smaller distributions in period 1 expressed valid resistance to the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EC partners expressed concern regarding a non-standard audit/au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process, most partners have been exposed to the intricacies and potential difficulties of the audi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artners exer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ort to com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FFF-33A9-4716-B9AE-216D22A9FC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eriod 2 distribution (next 18 month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147680"/>
          <a:ext cx="5562720" cy="511488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905120"/>
                <a:gridCol w="1828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eriod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2,0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7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5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9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9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3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5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5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3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1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35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6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17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3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2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1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5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26,20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5,34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8C7-60AF-418D-81E1-63D8B3CA80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D61-EC14-403B-BA5C-4A1BF20052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960-1AE1-4265-BE1B-FBC9EA8CE1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EC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distribution to partner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% remainder distributed Ma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after EC provides feedback on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en EC report will be delivered, money should arrive "a few weeks"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will again be split into two pieces, 85% and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D9E-0AD1-44C6-B2BA-F93974D21B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1177920"/>
          <a:ext cx="61722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77920"/>
                    <a:ext cx="61722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ing, by Activit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971-CC19-4F18-8BB4-C2437AEFFF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orm A Inconsistenc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2, Breakdown of the EC contribution per repor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3, Financial Information, 1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0,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572,000 €   (first tran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1,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Office decided to move forward with a first distribution to participants based on the A3.3 total.  Rounding each partners' allocation to an even thousand, the 18 month figure is 1,226,208 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2E3-A96E-49B6-A84E-F2DF9378D2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tail: Historical A3.2, A3.3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216080"/>
            <a:ext cx="7162920" cy="480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E68-9506-4B9C-95BA-6DBD5F954F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Year 1 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 result of the A Form inconsistencies, it looks as though some sites are over/non-spending.  This was explained and clarified to the 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147680"/>
          <a:ext cx="350532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B85-7AEE-4E2F-8E2D-172E41D02A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Summary (2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147680"/>
          <a:ext cx="668016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519-A138-4853-BD67-1410BD3414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Over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portunity to use a short period of idle MIT Haystack engineering time appeared for important upgrades to the Mk5 systems.  A subcontract was established after consultation with our Science Offic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quipment was forward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SIRO and VIRAC will claim their entire three years of spending during the first y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IRO found that their costs were higher than expected and asked to bring forward their costs in response; their internal budgeting will adjust to these costs and the shifted fu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C completed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 and SHAO seem to be overspending, but they have executed just over one-third of their three year 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3F4-6733-493F-ACA1-8BA8201E57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Non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claiming zero 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ree of the five partners received less than 5,000 € for the firs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pending does not mean non-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and JIVE are coordinating the installation and optimization of the next network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has been working closely with CSIRO to install and deploy connectivity to their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A38-2FB1-4CD9-8AEB-E1226492C7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18T09:04:18Z</dcterms:modified>
  <cp:revision>114</cp:revision>
  <dc:subject/>
  <dc:title>Slide 1</dc:title>
</cp:coreProperties>
</file>